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83A4-5776-4E5C-9521-34593A32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7A1-75F5-48FF-A734-3A5AC0689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CDC535-4EEE-4BD1-BC77-C2247746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BE2F9-851B-40C1-8FFB-AE02FD46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A2E31-8D86-4C35-9686-589B4A4B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C30EB-9878-4F00-8ED2-9C7575C7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6A0623-4BFA-4A16-95EE-8087B20B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995416-6364-48E1-AE5A-246AA55B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9D216-989C-453D-B8F5-1D92180C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FA89C-106C-4EEE-AB6F-7291753C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BCC27-9839-489D-BB92-9A8EBE71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436E-C483-4215-A385-C83F15EB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4466-9B3F-4FC2-889F-5E90C517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8861-98C8-4F79-AF88-E35D71E5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0CBF-8F43-4092-9001-EBED518B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C25B-FF72-4027-836F-E18F6A4B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BE37-FB0B-46F9-9ACD-CDA50A86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02427-F8AF-4167-9B66-EF109CD8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2AE2-0821-4501-A28F-0BD66482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532D-BDAD-4E58-8B73-B092C6FD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AC1-8180-414E-9B75-89FD1F9A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8DF9A-D7A4-47EE-A8DB-2CAE011C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E5A9-5F2B-4EEF-8FAA-D015F9A4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BFCF-78FF-44E9-AA9B-A71BEE62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8257-362D-4402-A377-CC8B1E3D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9AC5-9389-4849-AC74-6A0F87A6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6C5CC-55DE-4593-AB15-544DEE8B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5B0CD-B910-4553-A32C-2644C962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ECBA6-02D3-42B7-8F01-D9FD7456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F03B7-9CF6-4523-A418-CD85DC05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491A-74A8-41B3-818B-ED8AFDE6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084-A2F3-4CB4-B0B2-A258F2FF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71832-82BB-416F-B743-CB61C5BE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4C45-E2F5-4092-960B-7AA09C73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4689E-EDC6-4FF6-9874-FAF7DB02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2BBCB-F328-4577-B783-AF1F580A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C2B1D-DBC0-4DCB-9386-703C2DB7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D9D80-10AE-4299-8148-A52B7094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4C87C-DA73-4579-B363-817DD8F4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30872-E741-4AB9-8845-7ABBCC69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91E49C-944A-4DFC-A8F1-01BD3147C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63161-B033-4676-80B1-BC51AB7B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815-76CC-4533-86F0-77F91FA1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0F0A2-BBDB-4036-B2B2-081CD275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442BE-2498-458F-879E-728467BA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6F0FE-0116-4962-B5BA-7AB3E9C8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B20C8-6E8D-4BA2-A6BF-DB0FFFFB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1F46E-219D-4B17-B82B-F6984D3E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9D68B-F3AA-4AB6-9A15-69575CB2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C3890-9B8C-4076-90AD-AAF0AFD3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D490F-8FBB-4D3D-8AEF-E64CAF65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2B927-1FF1-4044-861A-A47C5D1A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D803B-D37F-45CF-ACBE-370147F22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C86C-1A67-4C1B-A7CD-0EF60945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C39AF-6E7A-435A-95F2-3A6D472F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03813-1BCC-4049-8AE4-E6771B14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8805D-73E4-4809-A0C7-696D8A58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C335B-4F71-4C51-8AB6-AFE8B06E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E9C83-06C4-4A12-9BF9-5BB23375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B69B7-47C6-4D74-B243-17D92C67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DE5FC-FDBA-4B15-8329-689ACEB7E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4D4BA-4572-4C2B-8A9F-A5E2793B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0C133-BE29-4007-BF0C-48250CC4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2F635-E2DE-452F-8B32-129BD940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493-56D2-4EC6-81A7-B2A4D6AE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92B60-B478-494D-95A7-E353914EE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2C030-0A19-4154-98FF-2FAF089BE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DFE44-2774-4DBA-AFB4-48777C0F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F3F99-35D4-4F8D-8758-6F32773E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E7FE8-3179-46EE-B088-97A5A10B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D2061-0D24-4AF4-9E95-F882674C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B3E482-A5EF-4723-AC74-30602282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22B5A-C678-4D7F-BADA-3AFD34D3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009E3-B6E1-48DD-8789-19C4509B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47B2D-CF4A-4A11-9FB1-65914212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97A-E9F2-43FB-BBDC-AF55557C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95C84-5D61-4B02-9C30-6D99F913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C4644-5C30-45E8-B574-9FF06A72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CE99C-A8C4-43C3-A4A5-E18E1994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73204-88C2-4790-B822-28136003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FAC5D-EC5A-4D61-95C8-FB323B3E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72723-3745-4464-AAC7-555924E3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1DF1E-8715-437D-9A59-E770EBBE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6D4ED-44A9-48B7-A5DF-CEE124F4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B331F-C912-47F4-AA7D-0A7A2C0C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09CBC-FDC1-41CE-9E25-E32A5AE8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81A-93A8-41A0-B58F-EC931A5B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3A77F-9400-4AE7-8EA3-E6AED97D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1C520-8AEE-428C-9F06-4C722DBF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DF506-0E09-4723-B122-2937569F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419EC-4B83-46E9-B54F-24383FAC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49AEE-6838-405D-B430-A4189AEEE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5750D-2FD0-41E7-8123-6A735316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639C8-3CC7-4B7C-B9CA-8C279073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96D37-9F39-459E-8A2C-B39F1E23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1A593-BD0F-4C65-9408-B07998EF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911C2-FCD2-47C3-8909-952C55E2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101C-FCD6-4983-9339-B6B51D22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73BB4-66C2-4068-9EAC-9D99E98B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BE45A-8456-475D-BF50-1BB43798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591D8-5567-4DA7-AF5B-0D46B267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6C905-EF5D-415E-AE8A-01942083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E0C9F-C62D-44CD-834B-C3AB6C26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38ECD-5F29-4588-8235-D0FD508A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DEF17-412E-44DB-9246-1B2EAD31E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10F69-F7AC-465B-B6EE-55312D4C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5319C-C47F-414D-A5A0-5C980478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CEC7C-F005-4F94-B8E6-95CE6C32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BA1A-1577-4B1E-B1E6-7208ACDFE912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5800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29AD-2DD5-48AA-95F0-883019F562D1}" type="slidenum"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237B-D13D-40F9-8288-5FAC161D76F9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920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53B1-DA73-4449-A128-8EACBB22DFE2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2762-9074-455A-8597-02F00A9D934F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5D61-561C-4AA1-9A43-BC397243FEC3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A562-8096-4210-BD2E-96DD814680D3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E8DE-10B6-45E5-A1D8-F21413B1492D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384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7E92-39A7-4922-A496-96AE29AACE7D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1182600" y="1390680"/>
            <a:ext cx="6778800" cy="2028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Book Antiqua"/>
              </a:rPr>
              <a:t>JESÚS GONZÁLEZ PÉREZ&amp;JULIO VILLALBA MELGUIZO</a:t>
            </a: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2-INSTALACIONES Y MATERIAL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3-RECURSOS ECONÓMIC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3.-PROMOCIÓN Y DIFUSIÓN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4.-FASES DE PUESTA EN MARCHA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5.-DOCUMENTACIÓN Y BIBLIOGRAFIA CONSULTADA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7.-ANEX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85440" y="2209320"/>
            <a:ext cx="77468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La empresa se llamará «NATURALCAMP», destinada a la ocupación del tiempo libre y la amenización de la estancia de los usuarios en los campings de verano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Nos encargaremos de llevar a cabo todas la actividades propuestas gestionar la empresa, adquirir materiales, buscar ayudas económicas y publicidad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1INTRODUC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2-JUSTIFICA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3-OBJETIVOS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4-ANALISIS DEL CONTEX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5-ESTUDIO DEL MERCAD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1.6-DESCRIPCIÓN DEL PROGRAMA DE ACTIVIDADE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-LOS RECURSOS Y MEDIOS NECESARI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1-HUMAN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ose</dc:creator>
  <dc:description/>
  <dc:language>en-US</dc:language>
  <cp:lastModifiedBy>JGP</cp:lastModifiedBy>
  <dcterms:modified xsi:type="dcterms:W3CDTF">2010-05-11T10:24:26Z</dcterms:modified>
  <cp:revision>12</cp:revision>
  <dc:subject/>
  <dc:title>NATURALCAMP</dc:title>
</cp:coreProperties>
</file>